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581-6925-4DBF-957C-E2DBC5EC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8EF-AF2B-4DEF-9FE1-5E0FB966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94F-3AB6-42E1-B8A0-EA107E2C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3D6-CDA0-47A4-8332-B1F4BD72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AF5B-4C1C-4DD1-BF63-477F043D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CE51-B05D-43AD-9E66-6E5E827B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9218-D318-45E7-924C-4FC268A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E9D-7198-43F2-9A3A-F6BA2EA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7C5B-A7EA-42BC-BF70-C1D13C6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DCB-A007-4D7D-98F2-1BD6B65D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0F1-1673-430A-911C-9CEACEF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9E9-7C9B-4082-B0D1-6DD60E7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378F-6DA8-47AF-8C40-B88901D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9B89-F18F-4519-8825-82D2222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D0E-5325-4703-9875-AA8312C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E5C4-0148-4EFA-9F18-41FA0416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9C1B-6CF6-4DDE-9999-8E975A9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5E8-4B58-4B93-9090-2A4BB3D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BA5-E611-473A-882A-94E5849C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428-DC23-4605-BF4A-0A45234F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B12-B077-42E8-9A4B-B4C45B48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A54-3625-4098-BC58-BF0CCA7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EBC-6A89-4EDA-A628-B10FEA9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B21-E66E-44CE-99C4-0D2D87E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025-91AE-4915-A52E-D8097F79584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7FD7-553A-4B4B-9875-2BEA59123714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dluka o komunalnom otpad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006560" y="1407960"/>
            <a:ext cx="20286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985000" y="3068640"/>
            <a:ext cx="1780920" cy="1276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042920" y="4157640"/>
            <a:ext cx="2095560" cy="1432080"/>
          </a:xfrm>
          <a:prstGeom prst="rect">
            <a:avLst/>
          </a:prstGeom>
          <a:ln w="0">
            <a:noFill/>
          </a:ln>
        </p:spPr>
      </p:pic>
      <p:sp>
        <p:nvSpPr>
          <p:cNvPr id="166" name="TekstniOkvir 4"/>
          <p:cNvSpPr/>
          <p:nvPr/>
        </p:nvSpPr>
        <p:spPr>
          <a:xfrm>
            <a:off x="3171960" y="179856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EU traži od n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kstniOkvir 5"/>
          <p:cNvSpPr/>
          <p:nvPr/>
        </p:nvSpPr>
        <p:spPr>
          <a:xfrm>
            <a:off x="3780000" y="3444840"/>
            <a:ext cx="19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R propisi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kstniOkvir 6"/>
          <p:cNvSpPr/>
          <p:nvPr/>
        </p:nvSpPr>
        <p:spPr>
          <a:xfrm>
            <a:off x="3138480" y="463392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ks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kstniOkvir 7"/>
          <p:cNvSpPr/>
          <p:nvPr/>
        </p:nvSpPr>
        <p:spPr>
          <a:xfrm>
            <a:off x="4067280" y="6093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Sonja Polonijo, rujan 20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Susta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Javna uslug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kupljanja miješanog komunalnog i biorazgradivog otpada – 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INDIVIDUALNO PREMA KORISNIKU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Usluga povezana s javnom uslugom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, mobilno reciklažno dvorište, spremnici na javnim površinama i kod korisnika usluge, glomazni otp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Gradnja sust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vrata do v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eleni otoci za reciklabilni ot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obilno 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što ne „po špranci”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24720" cy="3311280"/>
          </a:xfrm>
          <a:prstGeom prst="rect">
            <a:avLst/>
          </a:prstGeom>
          <a:ln w="0">
            <a:noFill/>
          </a:ln>
        </p:spPr>
      </p:pic>
      <p:sp>
        <p:nvSpPr>
          <p:cNvPr id="192" name="TekstniOkvir 2"/>
          <p:cNvSpPr/>
          <p:nvPr/>
        </p:nvSpPr>
        <p:spPr>
          <a:xfrm>
            <a:off x="395280" y="5516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ilj je zajednički, ali je put u bolju ekološku budućnost različ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Lokalne specifičnost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liki grad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ijetko naselje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urističk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ljoprivred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Copy-Paste” NIJE rješ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isciplina korisnika usl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ostatak infrastruk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mora „držati vodu” i u periodu gradnje s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Još neke „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o redar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risnik ne prima pošiljku s Izjav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partmanske zgrade koje se „na crno” iznajmljuj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Copy Paste?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Imamo problem!</a:t>
            </a:r>
            <a:br>
              <a:rPr sz="4400"/>
            </a:br>
            <a:br>
              <a:rPr sz="4400"/>
            </a:b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jedno s komunalcem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uzeti i vanjskog ako tre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konodavni okv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GO (NN 94/2013, 73/2017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redba (NN 50/2017.) stupa na snagu 1.11.20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LS treba do 31.1.201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poslovanje davatelja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Odluku o komunalnom r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sklađenje poslovanja davatelja uslu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o načinu pružanja usluge (G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govor  (Odluka, Izjava, Cjen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java: davatelj usluge prema korisnic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jenik: odgoda primjene 30 dana od objave (suglasnost gradonačelni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USKLAĐENOST ROKOVA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c000"/>
                </a:solidFill>
                <a:latin typeface="Arial"/>
              </a:rPr>
              <a:t>ZOGO čl.33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Cijena javne uslug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»onečišćivač plaća«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ekonomski održivo poslovanje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sigurnost, redovitost i kvaliteta pružanja uslu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c000"/>
                </a:solidFill>
                <a:latin typeface="Arial"/>
              </a:rPr>
              <a:t>jedinična cijena</a:t>
            </a:r>
            <a:r>
              <a:rPr b="0" lang="hr-HR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za masu predanog otpada ili volumen spremnika otpa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red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 - FIKS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cijena za količinu predanog otpad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VARIJABIL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ugovorna kazn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NOVOS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o javne usluge koju je potrebno osigurati kako bi sustav sakupljanja komunalnog otpada mogao ispuniti svoju svrhu poštujući pritom obvezu o osiguranju primjene načela »onečišćivač plaća«, ekonomski održivo poslovanje te sigurnost, redovitost i kvalitetu pružanja javne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govorna kaz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Davatelj uslug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pod određenim uvjetima smije naplatiti nediscipliniranom koris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Visina ugovorne kazn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– nivo dodatnog troška za davatelj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000"/>
                </a:solidFill>
                <a:latin typeface="Arial"/>
              </a:rPr>
              <a:t>Odluka o načinu pružanja javne uslu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vezni i fakultativni sadr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OGO (čl.30.st.7.) i Uredba (čl.4. st. 1. i 2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Gradnja novog sustav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000"/>
                </a:solidFill>
                <a:latin typeface="Arial"/>
              </a:rPr>
              <a:t>Roko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idencija (koliko je pojedini korisnik predao otpada) – do 30.4.201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prihvatljiv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dokaz izvršenja javne usluge za pojedinog korisnika uslug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do 31.10.20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50:53Z</dcterms:created>
  <dc:creator>Sonja Polonijo</dc:creator>
  <dc:description/>
  <dc:language>en-US</dc:language>
  <cp:lastModifiedBy>Sonja Polonijo</cp:lastModifiedBy>
  <dcterms:modified xsi:type="dcterms:W3CDTF">2017-08-28T06:47:50Z</dcterms:modified>
  <cp:revision>47</cp:revision>
  <dc:subject/>
  <dc:title>Prije ZOGO-a</dc:title>
</cp:coreProperties>
</file>